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1A5-1F25-472F-8EA9-A5A9B16E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534-E3F7-4849-B3F6-DC62786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F7A91-6962-4656-8548-36D0AD6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D88AE-9A32-4758-B756-0EC6A945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D65AF-9ACF-4C82-AA33-707B73E5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6ADE-FD61-4292-8240-A29452D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6BE0C-065B-414D-AAA1-276DACF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0EFC-8516-4896-84D6-C040590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265DA-8EF0-4B02-9C0F-2A48D94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7678-CA8B-4965-8DA3-25AD9FFA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28AB1-A872-400D-8FF2-6B0C923D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8664-8434-4036-BF66-62A16380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C3B-9B23-414F-B9D7-CFDA044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2A8D-F395-46B1-9600-159B3FE8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85509-5EBA-4A07-901C-836120B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F5ED-4F6C-4954-BC96-61D7CBDF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06D26-0EF1-4FE3-A132-D393B3F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DF68-8456-4E0E-93AE-A61B2CAD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EDAC2-A1B9-4871-82A7-870FB3B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34A99-E3F4-4268-9B3A-EEDD0CEF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ED8C8-C67E-4C5B-83F2-83DE7F6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3FF1B-EF58-472A-B9F0-009831E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EAFE5-A3F3-4711-BB70-E6072B7B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078-3A3D-42F3-B3DC-8026D9BB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3774-8196-429B-AC75-1E3832A0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697F-FE61-4F7B-950A-FBFDADC5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4001F-3C9A-45A0-B2BD-AE6E13B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ACAC2-5383-465D-99F9-9911A04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FA808-B8DA-4047-8FC3-2EB7A5D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A4A8-EE3C-45FF-A374-4BF6BE3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ED7FE-6B36-477F-9D86-9292DAF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57759-8D07-49E5-AAE0-521EB8A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ABD0-B7E8-49B6-92C8-59950B4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3CE3E-E738-4FE7-A8FB-0D814DF6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9CB1-6EF9-48FA-9946-550BD032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B159-BADE-4422-99E5-250D0027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994E6-5DC2-4B79-87E4-AFDFEF33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BC7A-9F64-4922-BBB9-9FA213A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E71FF-2700-4095-A139-38CA2C91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AE8B5-8954-44B9-BDA5-7A210F4E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E867E-F64A-4375-9775-6CE7047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8FDAD-C9D4-4EC3-AC6F-BEB0D80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18CFC-1E8E-4283-BE45-C669A959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D2CCB-4710-4371-8606-60E3EC9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918C7-45A3-4A00-BA5D-106B3C3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64E6-BD0C-425D-A7FD-E2EB4D2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2D955-18B3-4B0A-91C0-F5EF710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C2025-8806-4AF8-834B-DF64190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4766A-699C-49B6-8DC4-F04DA02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C785F-537F-4E4F-A2B4-93E5F692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9B46F-4549-422A-882A-BC657ABC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0F7-99A7-427B-8C34-42845B4D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70D-DF17-44C4-9909-F1E8999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709E-6CA5-4C37-BF8C-B1FAAF2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587-DE2D-46B0-9250-BB2BF60A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DEF-638E-430E-B47C-D12A1D1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A0C-2347-47C3-9EAA-3D582590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6170-498F-4CC5-BAC6-40AC9AD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CFB0-50AD-4375-9EDD-6D37BAD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2CB5-95B1-4ECA-8B27-13D1CA5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88E-FFA7-47FB-8C20-8D73645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FB6-588F-428F-83AC-3496715E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9A41-47A4-4540-8B9A-367E03BC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D4CB-AE94-4932-9424-7822567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CC8A-097E-4947-A3EE-E39D84C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896E-9EF2-4A50-B42B-389E1A7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48B6-39E0-4451-9DB9-21C6B22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6F8-B3EE-43F9-AE8E-65B75732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2306-2416-4F13-BF81-560F3F98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7F67-284B-4F92-88A6-217F937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3E56-C78C-46B0-88B5-8DAD2EA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8777-5CD0-4341-B6BA-FB05718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DE71-A2D4-44C1-9EC5-A39C207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531B-319E-4C26-988F-3703D3CD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63FB-C3C4-4944-BDA0-0AAFB69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1FE8-E542-48D3-A596-B7B2A584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6DAE-683C-4298-8368-668E926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D861-D215-4F66-8D35-ABCD1D1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9E5-691A-4626-8FFE-9C6DC29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75C3-AA2F-4721-AEFA-6BCEC50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03F2-DB7D-4994-8C9A-857B6BD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B15B-CBD8-4985-B465-1C964AF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A9FA-3624-41C2-9F75-1247F4F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D8E8-DD38-43E5-AD71-438882A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9A7C-BCF1-4289-AF74-922642B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AEC8-9CED-45D4-B7E6-E8A0638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E569-3F57-439B-B83F-D8E302E7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F0F8-5036-4F22-9D0E-819BECC4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1D9E-A33D-4514-91E9-8DC4F455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B97-0FC1-46D0-AEC5-B7107B39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DB87-B6BA-4323-928E-360AB54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AC0D-458A-4DE1-A39F-811209A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80ED-0BD3-49B9-B440-20AE1F0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A42B-3573-4897-91DE-84752F4F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33A8-37CD-4B6D-8B08-8BEDB794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C208-1E7E-4A88-84F3-6BB0028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9876-BEA0-42E5-A82C-4BCCCB2A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2C98-55B4-4120-89B1-C72F1C1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3FFA-925D-42BB-BD9D-C84B5BA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D345-6CA8-41E7-9114-519A7EC1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D35-7A91-4AC3-B904-ED6A867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3436-F703-441D-A18B-E8F81DF7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2B9C-371E-476D-8AFD-73AADEFF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95CD-DEC6-4223-B028-DDD9226B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93099-6D44-4822-AF66-3D1262D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2E75-8AED-4354-A1A0-6B0FE0E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6D56A-12B7-44CB-BB1C-CFCA8E9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08CC-0F56-4C36-92F7-C3ACF0F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E41A-DA10-465C-9496-6876DCA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58AB-09C5-4C37-ACBD-1F89C84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B528-A2EE-451C-BE08-1D0315F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7CE-B199-4175-B75E-9621958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D1EA-8D50-4624-8898-D057FE21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D719-FC13-48B2-8D45-5294BE46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884A3-0583-4363-ADAA-DCBBE31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8E4AF-6486-4815-A94F-F14E602E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1E66-7754-48F7-A571-AE8A618E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5AE9-C1CA-4823-9948-C03AB222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4EA8-102D-4265-BCEA-5B1796F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8829-6793-471F-80CF-0D617E0F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B568-3429-44A5-97DB-8E3D5E20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4CCA-CAC5-496B-AC14-B24B295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76A-705E-449D-802A-50AC8F2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2358-290B-4686-8BF6-A4C420D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FEA3-7FD3-4A4E-9BEC-35084B8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5CB2-CA79-4ACE-A08A-35D9E43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454C-81BB-48F7-8063-38422AA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A4C43-663A-4A90-AC67-A46820EC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B405-2334-4FD2-B0B4-845DE030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96C81-E2AF-4BBD-8FE2-930E89B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B032-50EF-4223-8F1B-EC36EA1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CC40C-2DE2-445D-8771-0A85ADF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70CD-1035-4D97-8171-2B974EF4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FD2-045B-4F2A-9FA1-89866EE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6769-FFB0-4FA3-83E1-EF227463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56FC9-CA7C-4FB3-840B-ABD30A0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9E4C-8AC4-4538-A832-B2C530F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64ED5-ECC9-4C09-98F6-7E4CEA4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AA46C-DF1C-4DEE-BF2C-F9754081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B6506-D7A0-41B0-A91D-2DAF80CC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8E29-59A1-4F21-A1AA-2AAE0A66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5BC8D-1408-416D-B6ED-955C4E2B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268F8-905B-44D3-984F-4B91387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438B-DFDA-4645-892D-9332B33E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6A4-A3A1-4815-9E1E-BEEFEEE31F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589-F816-43D2-93E2-8B68F9BA44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C87-1122-4C7E-B69C-17BE4F045B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F801-2F78-484E-AD14-B0737E7262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AAD6-DB55-418E-8EEA-463F962B40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B3E-3967-4FC2-932E-346413A76C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71D-6874-40B5-B351-198E49AB64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1BE-FCD1-459A-ADDA-EB00C5025F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3424-7434-496C-A811-3DBE2083F3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65D4-B559-4133-AB88-7E05C4F91C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BF5-15C2-48F7-A64C-FE77CCA1D8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7EA-7100-4FD5-BE43-5A10396EF7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1 Keď za obzor sa stráca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v hmlách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tráca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zmysel život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a obzor sa strác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vládu preber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íroda sa vôkol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k spánku uber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nášho domu, Pane vstúp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hosťom víta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chráň pred všetkým zl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chráň pred všetkým zl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voľna deň sa strác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má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znova ďakuj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ôľa tvoja sta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ôľa tvoj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už sa kráti žitia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iac ma môže hr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ž v lásky tvojom náru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ť tíško spoč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20:50Z</dcterms:modified>
  <cp:revision>56</cp:revision>
  <dc:subject/>
  <dc:title>Je veľký náš Pán, on slávy je Kráľ Nech do všetkých strán  spev vrúcnych znie chvál.</dc:title>
</cp:coreProperties>
</file>